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8CFF-F35A-4C52-975E-8620B3053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5FA5-3257-42E3-8CE1-0929BE9BC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BF97-64AC-4F38-AC2C-656ACBAAC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5D71-B84C-4C84-B3CB-03600405D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5634-AF38-48E2-AD98-B63F71C5E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D461-376C-4F27-AB23-1733D1084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B73D-6B12-4A85-BCD0-9DF9AC86E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C5F4-16CA-4202-87AC-267723D66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7FAB-9B6A-4F10-A241-3A31A05C6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EAD0-7289-4F77-AE2E-E7BF9652A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01BE-3BCC-4BBB-BA18-E290ED553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B1E9-43FB-4F82-A09D-316BDF8D8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8F7AF-4E6F-40D6-BB80-8F4CB29B2BC3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-139680" y="-96840"/>
            <a:ext cx="9387000" cy="992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"/>
          <p:cNvPicPr/>
          <p:nvPr/>
        </p:nvPicPr>
        <p:blipFill>
          <a:blip r:embed="rId3"/>
          <a:stretch/>
        </p:blipFill>
        <p:spPr>
          <a:xfrm>
            <a:off x="217440" y="1125360"/>
            <a:ext cx="8675640" cy="532800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4554360" y="3357720"/>
            <a:ext cx="427068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قس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إخلاص العبادة ظاهراً وباطنأ ل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إخلاص الدعاء ل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عنوان 1"/>
          <p:cNvSpPr/>
          <p:nvPr/>
        </p:nvSpPr>
        <p:spPr>
          <a:xfrm>
            <a:off x="250920" y="3429000"/>
            <a:ext cx="427032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لا يأمر بالفحشا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تخاذ الشيطان اولياء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-139680" y="-96840"/>
            <a:ext cx="9387000" cy="992160"/>
          </a:xfrm>
          <a:prstGeom prst="rect">
            <a:avLst/>
          </a:prstGeom>
          <a:ln w="0">
            <a:noFill/>
          </a:ln>
        </p:spPr>
      </p:pic>
      <p:sp>
        <p:nvSpPr>
          <p:cNvPr id="87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59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"/>
          <p:cNvPicPr/>
          <p:nvPr/>
        </p:nvPicPr>
        <p:blipFill>
          <a:blip r:embed="rId3"/>
          <a:stretch/>
        </p:blipFill>
        <p:spPr>
          <a:xfrm>
            <a:off x="324000" y="1557360"/>
            <a:ext cx="848988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-139680" y="-96840"/>
            <a:ext cx="9387000" cy="992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2" name="عنوان 1"/>
          <p:cNvSpPr/>
          <p:nvPr/>
        </p:nvSpPr>
        <p:spPr>
          <a:xfrm>
            <a:off x="223920" y="1700280"/>
            <a:ext cx="8691480" cy="10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قليد المحمود : ما كان موافق للكتاب والسن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والتقليد المذموم : ما كان مخالف للكتب والسن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11" descr=""/>
          <p:cNvPicPr/>
          <p:nvPr/>
        </p:nvPicPr>
        <p:blipFill>
          <a:blip r:embed="rId3"/>
          <a:stretch/>
        </p:blipFill>
        <p:spPr>
          <a:xfrm>
            <a:off x="1170000" y="1052640"/>
            <a:ext cx="7745400" cy="635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" descr=""/>
          <p:cNvPicPr/>
          <p:nvPr/>
        </p:nvPicPr>
        <p:blipFill>
          <a:blip r:embed="rId4"/>
          <a:stretch/>
        </p:blipFill>
        <p:spPr>
          <a:xfrm>
            <a:off x="3568680" y="2747880"/>
            <a:ext cx="5295960" cy="609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3" descr=""/>
          <p:cNvPicPr/>
          <p:nvPr/>
        </p:nvPicPr>
        <p:blipFill>
          <a:blip r:embed="rId5"/>
          <a:stretch/>
        </p:blipFill>
        <p:spPr>
          <a:xfrm>
            <a:off x="2273400" y="4538520"/>
            <a:ext cx="6627600" cy="546120"/>
          </a:xfrm>
          <a:prstGeom prst="rect">
            <a:avLst/>
          </a:prstGeom>
          <a:ln w="0">
            <a:noFill/>
          </a:ln>
        </p:spPr>
      </p:pic>
      <p:sp>
        <p:nvSpPr>
          <p:cNvPr id="96" name="عنوان 1"/>
          <p:cNvSpPr/>
          <p:nvPr/>
        </p:nvSpPr>
        <p:spPr>
          <a:xfrm>
            <a:off x="250920" y="3500280"/>
            <a:ext cx="86914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بما عملوا من أسباب الغواي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عنوان 1"/>
          <p:cNvSpPr/>
          <p:nvPr/>
        </p:nvSpPr>
        <p:spPr>
          <a:xfrm>
            <a:off x="250920" y="5300640"/>
            <a:ext cx="86914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كما أنشأكم أول مرة يبعثكم أحياء فترجعون إليه للحساب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20520"/>
            <a:ext cx="91296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16"/>
          <a:stretch/>
        </p:blipFill>
        <p:spPr>
          <a:xfrm>
            <a:off x="250920" y="1765440"/>
            <a:ext cx="8642160" cy="49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7920"/>
            <a:ext cx="9153360" cy="1333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258840" y="1752480"/>
            <a:ext cx="8604000" cy="36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-139680" y="-96840"/>
            <a:ext cx="9387000" cy="992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"/>
          <p:cNvPicPr/>
          <p:nvPr/>
        </p:nvPicPr>
        <p:blipFill>
          <a:blip r:embed="rId2"/>
          <a:stretch/>
        </p:blipFill>
        <p:spPr>
          <a:xfrm>
            <a:off x="23760" y="907920"/>
            <a:ext cx="909648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-139680" y="-96840"/>
            <a:ext cx="9387000" cy="992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"/>
          <p:cNvPicPr/>
          <p:nvPr/>
        </p:nvPicPr>
        <p:blipFill>
          <a:blip r:embed="rId2"/>
          <a:stretch/>
        </p:blipFill>
        <p:spPr>
          <a:xfrm>
            <a:off x="0" y="776160"/>
            <a:ext cx="9132840" cy="924120"/>
          </a:xfrm>
          <a:prstGeom prst="rect">
            <a:avLst/>
          </a:prstGeom>
          <a:ln w="0">
            <a:noFill/>
          </a:ln>
        </p:spPr>
      </p:pic>
      <p:sp>
        <p:nvSpPr>
          <p:cNvPr id="50" name="عنوان 1"/>
          <p:cNvSpPr/>
          <p:nvPr/>
        </p:nvSpPr>
        <p:spPr>
          <a:xfrm>
            <a:off x="2987640" y="1052640"/>
            <a:ext cx="43768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شروط قبول العمل الصال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11" descr=""/>
          <p:cNvPicPr/>
          <p:nvPr/>
        </p:nvPicPr>
        <p:blipFill>
          <a:blip r:embed="rId3"/>
          <a:stretch/>
        </p:blipFill>
        <p:spPr>
          <a:xfrm>
            <a:off x="250920" y="1628640"/>
            <a:ext cx="8732880" cy="1584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"/>
          <p:cNvPicPr/>
          <p:nvPr/>
        </p:nvPicPr>
        <p:blipFill>
          <a:blip r:embed="rId4"/>
          <a:stretch/>
        </p:blipFill>
        <p:spPr>
          <a:xfrm>
            <a:off x="250920" y="3357720"/>
            <a:ext cx="8685000" cy="350028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395280" y="5086440"/>
            <a:ext cx="47815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بالعد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395280" y="5591160"/>
            <a:ext cx="47815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في كل وقت سجود أو مكان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468360" y="5951520"/>
            <a:ext cx="47815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هداهم الله في الدنيا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468360" y="6383160"/>
            <a:ext cx="4781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أطاعوا الشياطين فيما يخالف ما شرعه الله تعالى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50920" y="1484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دلائل الجهل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احتجاج بفعل الآباء وتقليدهم في الباطل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19875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من كمال حكمته تعالى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ه لا يأمر عباده بالفحشاء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27160" y="2492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أمر الله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العدل في العبادات والمعاملات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-139680" y="-96840"/>
            <a:ext cx="9387000" cy="992160"/>
          </a:xfrm>
          <a:prstGeom prst="rect">
            <a:avLst/>
          </a:prstGeom>
          <a:ln w="0">
            <a:noFill/>
          </a:ln>
        </p:spPr>
      </p:pic>
      <p:sp>
        <p:nvSpPr>
          <p:cNvPr id="62" name="عنوان 1"/>
          <p:cNvSpPr/>
          <p:nvPr/>
        </p:nvSpPr>
        <p:spPr>
          <a:xfrm>
            <a:off x="250920" y="2997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أن الله لا يأمر عباده بالفحشاء  ويأمر بالعدل في العبادات والمعاملات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قال تعالى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2" descr=""/>
          <p:cNvPicPr/>
          <p:nvPr/>
        </p:nvPicPr>
        <p:blipFill>
          <a:blip r:embed="rId2"/>
          <a:stretch/>
        </p:blipFill>
        <p:spPr>
          <a:xfrm>
            <a:off x="426960" y="3452760"/>
            <a:ext cx="8429760" cy="571680"/>
          </a:xfrm>
          <a:prstGeom prst="rect">
            <a:avLst/>
          </a:prstGeom>
          <a:ln w="0">
            <a:noFill/>
          </a:ln>
        </p:spPr>
      </p:pic>
      <p:sp>
        <p:nvSpPr>
          <p:cNvPr id="64" name="عنوان 1"/>
          <p:cNvSpPr/>
          <p:nvPr/>
        </p:nvSpPr>
        <p:spPr>
          <a:xfrm>
            <a:off x="250920" y="4149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صفة الأوامر الربانية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عدل ورحمة وتحقق سعادة الدنيا وفلاح الآخر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50920" y="451008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ا تقبل العبادة إلا بشرط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رابط مستقيم 26"/>
          <p:cNvSpPr/>
          <p:nvPr/>
        </p:nvSpPr>
        <p:spPr>
          <a:xfrm flipH="1">
            <a:off x="4593960" y="494172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رابط مستقيم 27"/>
          <p:cNvSpPr/>
          <p:nvPr/>
        </p:nvSpPr>
        <p:spPr>
          <a:xfrm flipH="1">
            <a:off x="1499760" y="523080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8" name="رابط كسهم مستقيم 28"/>
          <p:cNvCxnSpPr/>
          <p:nvPr/>
        </p:nvCxnSpPr>
        <p:spPr>
          <a:xfrm>
            <a:off x="7980120" y="523872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9" name="عنوان 1"/>
          <p:cNvSpPr/>
          <p:nvPr/>
        </p:nvSpPr>
        <p:spPr>
          <a:xfrm>
            <a:off x="6443640" y="5540400"/>
            <a:ext cx="2413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موافقته للكتاب والسن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0" name="رابط كسهم مستقيم 37"/>
          <p:cNvCxnSpPr/>
          <p:nvPr/>
        </p:nvCxnSpPr>
        <p:spPr>
          <a:xfrm>
            <a:off x="1499760" y="523044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" name="عنوان 1"/>
          <p:cNvSpPr/>
          <p:nvPr/>
        </p:nvSpPr>
        <p:spPr>
          <a:xfrm>
            <a:off x="419040" y="5611680"/>
            <a:ext cx="163188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إخلاصه لل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عنوان 1"/>
          <p:cNvSpPr/>
          <p:nvPr/>
        </p:nvSpPr>
        <p:spPr>
          <a:xfrm>
            <a:off x="250920" y="1484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الضلالة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طاعة الشيطان والإصغاء إلى وساوسه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250920" y="19875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تعالى خلق العباد وجعل منهم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مؤمن والكافر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عنوان 1"/>
          <p:cNvSpPr/>
          <p:nvPr/>
        </p:nvSpPr>
        <p:spPr>
          <a:xfrm>
            <a:off x="227160" y="2492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من الكفار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 يتقربون إلى الله بالباطل ويحسبون أنهم على هدى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5" descr=""/>
          <p:cNvPicPr/>
          <p:nvPr/>
        </p:nvPicPr>
        <p:blipFill>
          <a:blip r:embed="rId1"/>
          <a:stretch/>
        </p:blipFill>
        <p:spPr>
          <a:xfrm>
            <a:off x="-139680" y="-96840"/>
            <a:ext cx="938700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4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895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"/>
          <p:cNvPicPr/>
          <p:nvPr/>
        </p:nvPicPr>
        <p:blipFill>
          <a:blip r:embed="rId3"/>
          <a:stretch/>
        </p:blipFill>
        <p:spPr>
          <a:xfrm>
            <a:off x="4067280" y="1197000"/>
            <a:ext cx="4724280" cy="55872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260280" y="1916280"/>
            <a:ext cx="86076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والإنسان مخير ومسي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فهو مختار، له إرادة، وله مشيئة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ولكن هذه الأشياء التي تقع منه لا تقع إلا بعد سبق القدر من الله بها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